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5.gif" ContentType="image/gif"/>
  <Override PartName="/ppt/media/image38.wmf" ContentType="image/x-wmf"/>
  <Override PartName="/ppt/media/image8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behappy.wav" ContentType="audio/x-wav"/>
  <Override PartName="/ppt/media/image12.wmf" ContentType="image/x-wmf"/>
  <Override PartName="/ppt/media/image37.wmf" ContentType="image/x-wmf"/>
  <Override PartName="/ppt/media/image7.wmf" ContentType="image/x-wmf"/>
  <Override PartName="/ppt/media/image2.wmf" ContentType="image/x-wmf"/>
  <Override PartName="/ppt/media/image3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5B7-C5D8-441F-B159-903F2181E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6D5-B0A8-47B1-8785-B0CA9BF1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05BA-BC44-4E3D-97E2-8F16330A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6AF-C720-430C-BF4A-8C47817C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9A3-995B-42D0-8AA0-FD0E31D2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418-5B5F-4641-A984-4BD0BADA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4F4-EDA6-4918-A3D5-19EAD149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B29-ABD4-400F-97DB-540AF546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0C4C-FAD7-4FEA-9BE8-313046AB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208-090A-4F9C-8C8A-452C0067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88D-90BD-4EC5-86AF-2C7607E0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2FE-F6AC-4E48-A1F5-D0C7DBF3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9DB2-D0C0-46DB-B01F-DFC8B6F06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4.wmf"/><Relationship Id="rId1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audio" Target="../media/behapp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cc"/>
                </a:solidFill>
                <a:latin typeface="Bazooka"/>
              </a:rPr>
              <a:t>Combining Like Term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Lydian BT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Lydian BT"/>
              </a:rPr>
              <a:t>Algebra Coun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ulder"/>
              </a:rPr>
              <a:t>The Adding So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2640" y="274284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g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tun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k!  The Herald Angels 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3808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When in math we do ad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We must always add like th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To add decimals, we must line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Corresponding place val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To add fractions, we’re in nee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Like denomina-ator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In Algebra, we need like term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They stay the same after we ad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In Algebra, we need like terms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They stay the same after we ad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ulder"/>
              </a:rPr>
              <a:t>The Multiplying So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42640" y="274284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g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ebra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tun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k!  The Herald Angels 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533520" y="6094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When we multiply two ter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They don’t have to be ali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First we multiply the number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Next, of course, the variab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When we write the final produ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Here’s the order of the facto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Number first, the letters nex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Recorded alphabeticall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Number first, the letters nex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enmark"/>
                <a:ea typeface="Times New Roman"/>
              </a:rPr>
              <a:t>Recorded alphabetica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1219320" y="685800"/>
          <a:ext cx="254628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85800"/>
                    <a:ext cx="2546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5"/>
          <p:cNvGraphicFramePr/>
          <p:nvPr/>
        </p:nvGraphicFramePr>
        <p:xfrm>
          <a:off x="3886200" y="762120"/>
          <a:ext cx="165564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762120"/>
                    <a:ext cx="16556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1219320" y="1905120"/>
          <a:ext cx="314172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1905120"/>
                    <a:ext cx="31417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7"/>
          <p:cNvGraphicFramePr/>
          <p:nvPr/>
        </p:nvGraphicFramePr>
        <p:xfrm>
          <a:off x="4495680" y="1981080"/>
          <a:ext cx="2079720" cy="67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1981080"/>
                    <a:ext cx="20797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8"/>
          <p:cNvGraphicFramePr/>
          <p:nvPr/>
        </p:nvGraphicFramePr>
        <p:xfrm>
          <a:off x="1219320" y="3200400"/>
          <a:ext cx="38224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3200400"/>
                    <a:ext cx="38224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9"/>
          <p:cNvGraphicFramePr/>
          <p:nvPr/>
        </p:nvGraphicFramePr>
        <p:xfrm>
          <a:off x="5105520" y="3276720"/>
          <a:ext cx="169704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05520" y="3276720"/>
                    <a:ext cx="169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0"/>
          <p:cNvGraphicFramePr/>
          <p:nvPr/>
        </p:nvGraphicFramePr>
        <p:xfrm>
          <a:off x="1219320" y="4495680"/>
          <a:ext cx="3057480" cy="849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9320" y="4495680"/>
                    <a:ext cx="305748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1"/>
          <p:cNvGraphicFramePr/>
          <p:nvPr/>
        </p:nvGraphicFramePr>
        <p:xfrm>
          <a:off x="4419720" y="4495680"/>
          <a:ext cx="2122200" cy="80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19720" y="4495680"/>
                    <a:ext cx="2122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2"/>
          <p:cNvGraphicFramePr/>
          <p:nvPr/>
        </p:nvGraphicFramePr>
        <p:xfrm>
          <a:off x="1219320" y="5715000"/>
          <a:ext cx="3228840" cy="849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2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19320" y="5715000"/>
                    <a:ext cx="32288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3"/>
          <p:cNvGraphicFramePr/>
          <p:nvPr/>
        </p:nvGraphicFramePr>
        <p:xfrm>
          <a:off x="4495680" y="5715000"/>
          <a:ext cx="1400400" cy="806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95680" y="5715000"/>
                    <a:ext cx="1400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4"/>
          <p:cNvSpPr/>
          <p:nvPr/>
        </p:nvSpPr>
        <p:spPr>
          <a:xfrm>
            <a:off x="438840" y="4140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in 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947880" y="1600200"/>
          <a:ext cx="301608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7880" y="1600200"/>
                    <a:ext cx="30160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"/>
          <p:cNvGraphicFramePr/>
          <p:nvPr/>
        </p:nvGraphicFramePr>
        <p:xfrm>
          <a:off x="4038480" y="1600200"/>
          <a:ext cx="195264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600200"/>
                    <a:ext cx="19526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"/>
          <p:cNvGraphicFramePr/>
          <p:nvPr/>
        </p:nvGraphicFramePr>
        <p:xfrm>
          <a:off x="1011240" y="2819520"/>
          <a:ext cx="344016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1240" y="2819520"/>
                    <a:ext cx="34401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5"/>
          <p:cNvGraphicFramePr/>
          <p:nvPr/>
        </p:nvGraphicFramePr>
        <p:xfrm>
          <a:off x="4495680" y="2819520"/>
          <a:ext cx="2419560" cy="72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2819520"/>
                    <a:ext cx="24195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6"/>
          <p:cNvGraphicFramePr/>
          <p:nvPr/>
        </p:nvGraphicFramePr>
        <p:xfrm>
          <a:off x="990720" y="4114800"/>
          <a:ext cx="386532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4114800"/>
                    <a:ext cx="38653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7"/>
          <p:cNvGraphicFramePr/>
          <p:nvPr/>
        </p:nvGraphicFramePr>
        <p:xfrm>
          <a:off x="4876920" y="4114800"/>
          <a:ext cx="1739880" cy="80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920" y="4114800"/>
                    <a:ext cx="17398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 Box 13"/>
          <p:cNvSpPr/>
          <p:nvPr/>
        </p:nvSpPr>
        <p:spPr>
          <a:xfrm>
            <a:off x="1048320" y="42228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in 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5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7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73160" y="228600"/>
          <a:ext cx="394812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160" y="228600"/>
                    <a:ext cx="394812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3"/>
          <p:cNvGraphicFramePr/>
          <p:nvPr/>
        </p:nvGraphicFramePr>
        <p:xfrm>
          <a:off x="4114800" y="304920"/>
          <a:ext cx="42879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04920"/>
                    <a:ext cx="4287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"/>
          <p:cNvGraphicFramePr/>
          <p:nvPr/>
        </p:nvGraphicFramePr>
        <p:xfrm>
          <a:off x="101520" y="1523880"/>
          <a:ext cx="471348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1520" y="1523880"/>
                    <a:ext cx="471348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1"/>
          <p:cNvGraphicFramePr/>
          <p:nvPr/>
        </p:nvGraphicFramePr>
        <p:xfrm>
          <a:off x="4114800" y="2286000"/>
          <a:ext cx="4795920" cy="679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2286000"/>
                    <a:ext cx="479592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2"/>
          <p:cNvGraphicFramePr/>
          <p:nvPr/>
        </p:nvGraphicFramePr>
        <p:xfrm>
          <a:off x="152280" y="3809880"/>
          <a:ext cx="3819600" cy="84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280" y="3809880"/>
                    <a:ext cx="3819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3"/>
          <p:cNvGraphicFramePr/>
          <p:nvPr/>
        </p:nvGraphicFramePr>
        <p:xfrm>
          <a:off x="3962520" y="3886200"/>
          <a:ext cx="403200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62520" y="3886200"/>
                    <a:ext cx="403200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4"/>
          <p:cNvGraphicFramePr/>
          <p:nvPr/>
        </p:nvGraphicFramePr>
        <p:xfrm>
          <a:off x="254160" y="5257800"/>
          <a:ext cx="4116240" cy="849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2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4160" y="5257800"/>
                    <a:ext cx="41162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15"/>
          <p:cNvGraphicFramePr/>
          <p:nvPr/>
        </p:nvGraphicFramePr>
        <p:xfrm>
          <a:off x="4267080" y="5334120"/>
          <a:ext cx="4372200" cy="80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67080" y="5334120"/>
                    <a:ext cx="43722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Oval 16"/>
          <p:cNvSpPr/>
          <p:nvPr/>
        </p:nvSpPr>
        <p:spPr>
          <a:xfrm>
            <a:off x="7696080" y="5181480"/>
            <a:ext cx="1067040" cy="10670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7086600" y="3733920"/>
            <a:ext cx="1066680" cy="10666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7696080" y="2057400"/>
            <a:ext cx="1295640" cy="106668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7238880" y="152280"/>
            <a:ext cx="1295640" cy="1067040"/>
          </a:xfrm>
          <a:prstGeom prst="ellipse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228600" y="228600"/>
          <a:ext cx="602928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60292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3"/>
          <p:cNvGraphicFramePr/>
          <p:nvPr/>
        </p:nvGraphicFramePr>
        <p:xfrm>
          <a:off x="6324480" y="228600"/>
          <a:ext cx="233532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28600"/>
                    <a:ext cx="23353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"/>
          <p:cNvGraphicFramePr/>
          <p:nvPr/>
        </p:nvGraphicFramePr>
        <p:xfrm>
          <a:off x="228600" y="1295280"/>
          <a:ext cx="48402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295280"/>
                    <a:ext cx="48402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5168880" y="1359000"/>
          <a:ext cx="297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8880" y="1359000"/>
                    <a:ext cx="297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228600" y="2819520"/>
          <a:ext cx="5178600" cy="80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2819520"/>
                    <a:ext cx="51786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486400" y="2819520"/>
          <a:ext cx="2548080" cy="67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819520"/>
                    <a:ext cx="254808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8"/>
          <p:cNvGraphicFramePr/>
          <p:nvPr/>
        </p:nvGraphicFramePr>
        <p:xfrm>
          <a:off x="228600" y="4038480"/>
          <a:ext cx="4795920" cy="80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2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8600" y="4038480"/>
                    <a:ext cx="47959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9"/>
          <p:cNvGraphicFramePr/>
          <p:nvPr/>
        </p:nvGraphicFramePr>
        <p:xfrm>
          <a:off x="5257800" y="4114800"/>
          <a:ext cx="2079720" cy="552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57800" y="4114800"/>
                    <a:ext cx="207972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1694880" y="3003480"/>
            <a:ext cx="535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mazone BT"/>
              </a:rPr>
              <a:t>to Algebra Coun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animated_welcome4"/>
          <p:cNvPicPr/>
          <p:nvPr/>
        </p:nvPicPr>
        <p:blipFill>
          <a:blip r:embed="rId1"/>
          <a:stretch/>
        </p:blipFill>
        <p:spPr>
          <a:xfrm>
            <a:off x="2590920" y="914400"/>
            <a:ext cx="3181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happ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0"/>
          <p:cNvGraphicFramePr/>
          <p:nvPr/>
        </p:nvGraphicFramePr>
        <p:xfrm>
          <a:off x="380880" y="228600"/>
          <a:ext cx="84582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"/>
                    <a:ext cx="84582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Freeform 32"/>
          <p:cNvSpPr/>
          <p:nvPr/>
        </p:nvSpPr>
        <p:spPr>
          <a:xfrm flipV="1">
            <a:off x="3354480" y="4822200"/>
            <a:ext cx="58680" cy="44280"/>
          </a:xfrm>
          <a:custGeom>
            <a:avLst/>
            <a:gdLst>
              <a:gd name="textAreaLeft" fmla="*/ 0 w 58680"/>
              <a:gd name="textAreaRight" fmla="*/ 59040 w 58680"/>
              <a:gd name="textAreaTop" fmla="*/ -360 h 44280"/>
              <a:gd name="textAreaBottom" fmla="*/ 44280 h 44280"/>
            </a:gdLst>
            <a:ahLst/>
            <a:rect l="textAreaLeft" t="textAreaTop" r="textAreaRight" b="textAreaBottom"/>
            <a:pathLst>
              <a:path w="184" h="140">
                <a:moveTo>
                  <a:pt x="184" y="0"/>
                </a:moveTo>
                <a:lnTo>
                  <a:pt x="162" y="92"/>
                </a:lnTo>
                <a:lnTo>
                  <a:pt x="0" y="140"/>
                </a:lnTo>
                <a:lnTo>
                  <a:pt x="18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54"/>
          <p:cNvSpPr/>
          <p:nvPr/>
        </p:nvSpPr>
        <p:spPr>
          <a:xfrm>
            <a:off x="380880" y="228600"/>
            <a:ext cx="2057400" cy="2209680"/>
          </a:xfrm>
          <a:prstGeom prst="ellipse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Oval 55"/>
          <p:cNvSpPr/>
          <p:nvPr/>
        </p:nvSpPr>
        <p:spPr>
          <a:xfrm>
            <a:off x="4038480" y="152280"/>
            <a:ext cx="2667240" cy="2210040"/>
          </a:xfrm>
          <a:prstGeom prst="ellipse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Object 1"/>
          <p:cNvGraphicFramePr/>
          <p:nvPr/>
        </p:nvGraphicFramePr>
        <p:xfrm>
          <a:off x="1981080" y="2590920"/>
          <a:ext cx="2900520" cy="17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590920"/>
                    <a:ext cx="29005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2"/>
          <p:cNvGraphicFramePr/>
          <p:nvPr/>
        </p:nvGraphicFramePr>
        <p:xfrm>
          <a:off x="4800600" y="2666880"/>
          <a:ext cx="2054160" cy="13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666880"/>
                    <a:ext cx="2054160" cy="13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58"/>
          <p:cNvSpPr/>
          <p:nvPr/>
        </p:nvSpPr>
        <p:spPr>
          <a:xfrm>
            <a:off x="2438280" y="380880"/>
            <a:ext cx="1524240" cy="205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6858000" y="228600"/>
            <a:ext cx="1981080" cy="205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15520" y="279360"/>
            <a:ext cx="79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cc"/>
                </a:solidFill>
                <a:uFillTx/>
                <a:latin typeface="Times New Roman"/>
              </a:rPr>
              <a:t>Different</a:t>
            </a: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 types of variable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unlike te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09480" y="2057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4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3341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8x</a:t>
            </a:r>
            <a:r>
              <a:rPr b="0" i="1" lang="en-US" sz="9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743200" y="236232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Poster"/>
              </a:rPr>
              <a:t>unli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4"/>
          <p:cNvGrpSpPr/>
          <p:nvPr/>
        </p:nvGrpSpPr>
        <p:grpSpPr>
          <a:xfrm>
            <a:off x="286920" y="2362320"/>
            <a:ext cx="8579520" cy="4192200"/>
            <a:chOff x="286920" y="2362320"/>
            <a:chExt cx="8579520" cy="4192200"/>
          </a:xfrm>
        </p:grpSpPr>
        <p:sp>
          <p:nvSpPr>
            <p:cNvPr id="59" name="Rectangle 9"/>
            <p:cNvSpPr/>
            <p:nvPr/>
          </p:nvSpPr>
          <p:spPr>
            <a:xfrm>
              <a:off x="1905120" y="2438280"/>
              <a:ext cx="685800" cy="1067040"/>
            </a:xfrm>
            <a:prstGeom prst="rect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6400800" y="2362320"/>
              <a:ext cx="1143000" cy="1066680"/>
            </a:xfrm>
            <a:prstGeom prst="rect">
              <a:avLst/>
            </a:pr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Text Box 11"/>
            <p:cNvSpPr/>
            <p:nvPr/>
          </p:nvSpPr>
          <p:spPr>
            <a:xfrm>
              <a:off x="286920" y="4267080"/>
              <a:ext cx="8579520" cy="2287440"/>
            </a:xfrm>
            <a:prstGeom prst="rect">
              <a:avLst/>
            </a:prstGeom>
            <a:noFill/>
            <a:ln w="7632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cc"/>
                  </a:solidFill>
                  <a:latin typeface="Times New Roman"/>
                </a:rPr>
                <a:t>To be like terms, the variable part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cc"/>
                  </a:solidFill>
                  <a:latin typeface="Times New Roman"/>
                </a:rPr>
                <a:t>is what has to be the same,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cc"/>
                  </a:solidFill>
                  <a:latin typeface="Times New Roman"/>
                </a:rPr>
                <a:t>not the numbers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2"/>
            <p:cNvSpPr/>
            <p:nvPr/>
          </p:nvSpPr>
          <p:spPr>
            <a:xfrm flipH="1" flipV="1">
              <a:off x="2286000" y="3657240"/>
              <a:ext cx="76320" cy="60948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3"/>
            <p:cNvSpPr/>
            <p:nvPr/>
          </p:nvSpPr>
          <p:spPr>
            <a:xfrm flipV="1">
              <a:off x="6934320" y="3657240"/>
              <a:ext cx="75960" cy="609480"/>
            </a:xfrm>
            <a:prstGeom prst="line">
              <a:avLst/>
            </a:prstGeom>
            <a:ln w="7632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15520" y="279360"/>
            <a:ext cx="79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66cc"/>
                </a:solidFill>
                <a:uFillTx/>
                <a:latin typeface="Times New Roman"/>
              </a:rPr>
              <a:t>Different</a:t>
            </a: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 types of variables ar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unlike te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5"/>
          <p:cNvGrpSpPr/>
          <p:nvPr/>
        </p:nvGrpSpPr>
        <p:grpSpPr>
          <a:xfrm>
            <a:off x="536760" y="2133720"/>
            <a:ext cx="8150040" cy="3689640"/>
            <a:chOff x="536760" y="2133720"/>
            <a:chExt cx="8150040" cy="3689640"/>
          </a:xfrm>
        </p:grpSpPr>
        <p:sp>
          <p:nvSpPr>
            <p:cNvPr id="66" name="Rectangle 6"/>
            <p:cNvSpPr/>
            <p:nvPr/>
          </p:nvSpPr>
          <p:spPr>
            <a:xfrm>
              <a:off x="1447920" y="2133720"/>
              <a:ext cx="1143000" cy="152388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7"/>
            <p:cNvSpPr/>
            <p:nvPr/>
          </p:nvSpPr>
          <p:spPr>
            <a:xfrm>
              <a:off x="7086600" y="2209680"/>
              <a:ext cx="1600200" cy="144792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536760" y="4267080"/>
              <a:ext cx="8073360" cy="155628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cc"/>
                  </a:solidFill>
                  <a:latin typeface="Times New Roman"/>
                </a:rPr>
                <a:t>The variable part is what ha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66cc"/>
                  </a:solidFill>
                  <a:latin typeface="Times New Roman"/>
                </a:rPr>
                <a:t>to be the same, not the numbers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9"/>
            <p:cNvSpPr/>
            <p:nvPr/>
          </p:nvSpPr>
          <p:spPr>
            <a:xfrm flipH="1" flipV="1">
              <a:off x="2286000" y="3657240"/>
              <a:ext cx="76320" cy="6094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0"/>
            <p:cNvSpPr/>
            <p:nvPr/>
          </p:nvSpPr>
          <p:spPr>
            <a:xfrm flipV="1">
              <a:off x="7543800" y="3657240"/>
              <a:ext cx="76320" cy="60948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457200" y="2057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2x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324480" y="2057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- x</a:t>
            </a:r>
            <a:r>
              <a:rPr b="0" i="1" lang="en-US" sz="9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2895480" y="2438280"/>
            <a:ext cx="297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Poster"/>
              </a:rPr>
              <a:t>unli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647712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45600" y="279360"/>
            <a:ext cx="825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These are like terms even thoug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they contain both an </a:t>
            </a:r>
            <a:r>
              <a:rPr b="0" i="1" lang="en-US" sz="4800" spc="-1" strike="noStrike">
                <a:solidFill>
                  <a:srgbClr val="0066cc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 and a </a:t>
            </a:r>
            <a:r>
              <a:rPr b="0" i="1" lang="en-US" sz="4800" spc="-1" strike="noStrike">
                <a:solidFill>
                  <a:srgbClr val="0066cc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09480" y="2057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3x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7913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-9x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124080" y="23623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Poster"/>
              </a:rPr>
              <a:t>LI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600200" y="2057400"/>
            <a:ext cx="1143000" cy="15238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7086600" y="2209680"/>
            <a:ext cx="1295280" cy="14479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79080" y="279360"/>
            <a:ext cx="639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These are also like te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09480" y="20574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3341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y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95480" y="236232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Poster"/>
              </a:rPr>
              <a:t>LI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41008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205740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487880" y="3886200"/>
            <a:ext cx="556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We write variables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alphabetical ord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95720" y="279360"/>
            <a:ext cx="7968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Even if we put numbers in fro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(coefficients) of each variabl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they are still like term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09480" y="24382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943600" y="24382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>
                <a:solidFill>
                  <a:srgbClr val="000000"/>
                </a:solidFill>
                <a:latin typeface="Times New Roman"/>
              </a:rPr>
              <a:t>yx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895480" y="274320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Poster"/>
              </a:rPr>
              <a:t>LIK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33520" y="2819520"/>
            <a:ext cx="914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Poster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638680" y="289548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00"/>
                </a:solidFill>
                <a:latin typeface="Poster"/>
              </a:rPr>
              <a:t>-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212200" y="228600"/>
            <a:ext cx="45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Suppose we hav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1066680" y="990720"/>
          <a:ext cx="7350120" cy="14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90720"/>
                    <a:ext cx="73501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0"/>
          <p:cNvGraphicFramePr/>
          <p:nvPr/>
        </p:nvGraphicFramePr>
        <p:xfrm>
          <a:off x="2286000" y="2286000"/>
          <a:ext cx="1878120" cy="14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18781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1"/>
          <p:cNvGraphicFramePr/>
          <p:nvPr/>
        </p:nvGraphicFramePr>
        <p:xfrm>
          <a:off x="4038480" y="2362320"/>
          <a:ext cx="265752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2362320"/>
                    <a:ext cx="265752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32"/>
          <p:cNvSpPr/>
          <p:nvPr/>
        </p:nvSpPr>
        <p:spPr>
          <a:xfrm>
            <a:off x="305280" y="3505320"/>
            <a:ext cx="409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It could also b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33"/>
          <p:cNvGraphicFramePr/>
          <p:nvPr/>
        </p:nvGraphicFramePr>
        <p:xfrm>
          <a:off x="4724280" y="4572000"/>
          <a:ext cx="1224000" cy="113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Object 3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4572000"/>
                    <a:ext cx="122400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Line 34"/>
          <p:cNvSpPr/>
          <p:nvPr/>
        </p:nvSpPr>
        <p:spPr>
          <a:xfrm flipH="1">
            <a:off x="4191120" y="3581280"/>
            <a:ext cx="1371600" cy="99072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35"/>
          <p:cNvGraphicFramePr/>
          <p:nvPr/>
        </p:nvGraphicFramePr>
        <p:xfrm>
          <a:off x="2362320" y="4572000"/>
          <a:ext cx="2657520" cy="123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Object 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62320" y="4572000"/>
                    <a:ext cx="26575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36"/>
          <p:cNvGraphicFramePr/>
          <p:nvPr/>
        </p:nvGraphicFramePr>
        <p:xfrm>
          <a:off x="5638680" y="4572000"/>
          <a:ext cx="1878120" cy="1441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Object 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4572000"/>
                    <a:ext cx="18781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Line 37"/>
          <p:cNvSpPr/>
          <p:nvPr/>
        </p:nvSpPr>
        <p:spPr>
          <a:xfrm>
            <a:off x="3733920" y="3505320"/>
            <a:ext cx="2743200" cy="1295280"/>
          </a:xfrm>
          <a:prstGeom prst="line">
            <a:avLst/>
          </a:prstGeom>
          <a:ln w="572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8"/>
          <p:cNvSpPr/>
          <p:nvPr/>
        </p:nvSpPr>
        <p:spPr>
          <a:xfrm>
            <a:off x="381960" y="5791320"/>
            <a:ext cx="8427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This is the commutative proper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3"/>
          <p:cNvGraphicFramePr/>
          <p:nvPr/>
        </p:nvGraphicFramePr>
        <p:xfrm>
          <a:off x="685800" y="990720"/>
          <a:ext cx="7684920" cy="123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768492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Oval 4"/>
          <p:cNvSpPr/>
          <p:nvPr/>
        </p:nvSpPr>
        <p:spPr>
          <a:xfrm>
            <a:off x="609480" y="762120"/>
            <a:ext cx="1828800" cy="182880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4343400" y="838080"/>
            <a:ext cx="1828800" cy="182880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7"/>
          <p:cNvGraphicFramePr/>
          <p:nvPr/>
        </p:nvGraphicFramePr>
        <p:xfrm>
          <a:off x="2819520" y="2819520"/>
          <a:ext cx="3674880" cy="123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819520"/>
                    <a:ext cx="367488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2819520" y="4724280"/>
          <a:ext cx="17668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724280"/>
                    <a:ext cx="17668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11"/>
          <p:cNvGraphicFramePr/>
          <p:nvPr/>
        </p:nvGraphicFramePr>
        <p:xfrm>
          <a:off x="5029200" y="4648320"/>
          <a:ext cx="1879560" cy="123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648320"/>
                    <a:ext cx="187956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12"/>
          <p:cNvGraphicFramePr/>
          <p:nvPr/>
        </p:nvGraphicFramePr>
        <p:xfrm>
          <a:off x="4191120" y="4724280"/>
          <a:ext cx="1225440" cy="1060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724280"/>
                    <a:ext cx="122544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Line 13"/>
          <p:cNvSpPr/>
          <p:nvPr/>
        </p:nvSpPr>
        <p:spPr>
          <a:xfrm>
            <a:off x="4114800" y="3962520"/>
            <a:ext cx="1447920" cy="68580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4"/>
          <p:cNvSpPr/>
          <p:nvPr/>
        </p:nvSpPr>
        <p:spPr>
          <a:xfrm flipH="1">
            <a:off x="3962160" y="3962520"/>
            <a:ext cx="1523880" cy="83808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068840" y="403848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Times New Roman"/>
              </a:rPr>
              <a:t>Or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2590920" y="838080"/>
            <a:ext cx="1752480" cy="1752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400800" y="762120"/>
            <a:ext cx="1752480" cy="1752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1067760" y="5791320"/>
            <a:ext cx="719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cc"/>
                </a:solidFill>
                <a:latin typeface="Times New Roman"/>
              </a:rPr>
              <a:t>Commutative property ag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1:08:44Z</dcterms:created>
  <dc:creator>Pat Pinkston</dc:creator>
  <dc:description/>
  <dc:language>en-US</dc:language>
  <cp:lastModifiedBy>cti</cp:lastModifiedBy>
  <cp:lastPrinted>2001-06-23T21:59:59Z</cp:lastPrinted>
  <dcterms:modified xsi:type="dcterms:W3CDTF">2014-10-25T04:58:29Z</dcterms:modified>
  <cp:revision>31</cp:revision>
  <dc:subject/>
  <dc:title>Combining Like Terms</dc:title>
</cp:coreProperties>
</file>